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05B6-0F2B-4EE8-8E39-E8309D380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6AC0-E285-4A73-B8EE-01D2340C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ABC4-8244-4804-9208-368870753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DEDF-1C6B-4028-B849-776C5D730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6F89-DC23-4D5B-AB42-663E3AE74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BAF1-D0D8-4449-8144-57C575E3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3800-6BAE-4123-846B-9F1E4EB8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6F3B-EA87-4204-9378-63F319AB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43C2-AD8F-443F-927C-753178A9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4AF7-1B0B-446D-A42F-B2E1B65F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0A4A-9B6C-49E8-B2D6-819A112E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5025-0148-4196-B5EA-CBA48E74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AD9F-2749-4A09-A537-F908B51F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6C7B-479A-48B3-862B-27327D02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71B7-6260-4446-81FF-B1FE42F4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0A46-0D6B-4B6C-AAED-549824A1E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4B02-E7C8-4CFE-B31C-45A94437B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E8F9-2DD0-4559-99EB-C7D5E649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656D-4F03-40A1-99AB-66ECF000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9009-EA5C-482B-BF4A-FD687376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E4BD-012D-4339-889D-B73554F4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E5A4-1E8F-426E-81A6-1B22A1DD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E9D1-FD61-4D20-A7AA-0E8762EE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9603-A6F7-469A-8991-017217F8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2FB8-C80D-47A8-A9D8-AFA3E69B4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22C2-7236-4AE6-898E-0AFDE93C4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nit 1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eal Numbers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dentify all sets of real numbers and the elements i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l Numb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001"/>
              </a:spcAft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umbers come in many forms: integers, fractions, decimals, etc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001"/>
              </a:spcAft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classify these numbers into six different “number se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atural Numb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Natural Numbers (N) – are the counting numb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{1,2,3,4,...78,79,….,223,224,…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ole Numb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Whole Numbers (W) – are zero and the Natur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{0,1,2,3…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g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 Integers (I or Z) – are Whole Numbers and their oppo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{…-3,-2,-1,0,1,2,3…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ational Numb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Rational Numbers (Q) – are numbers that can be written as a fraction or decimal (either terminating or repeat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{…-5/6, -1/2, 0/6, 1.2, 3.555…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rrational Numb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 Irrational Numbers (Ir) – a number whose decimal does NOT terminate or repeat/cannot be written as a f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{.212112111211112…….,       ,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  <a:ea typeface="Arial"/>
              </a:rPr>
              <a:t>π,.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324480" y="4114800"/>
                <a:ext cx="6480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al Numb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.Real Numbers (R) – all rational and irrational numb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assify each numb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791320" y="1981080"/>
            <a:ext cx="278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, Q,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, Q, I, W,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, 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, Q, I,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1905120"/>
            <a:ext cx="137160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676520" y="4267080"/>
          <a:ext cx="60948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267080"/>
                    <a:ext cx="60948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17:38:55Z</dcterms:created>
  <dc:creator>PA Department of Education</dc:creator>
  <dc:description/>
  <dc:language>en-US</dc:language>
  <cp:lastModifiedBy>Parkland High School</cp:lastModifiedBy>
  <dcterms:modified xsi:type="dcterms:W3CDTF">2010-09-09T12:22:16Z</dcterms:modified>
  <cp:revision>6</cp:revision>
  <dc:subject/>
  <dc:title>Unit 1   Section 1.1 Number Sets  </dc:title>
</cp:coreProperties>
</file>